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7A3-AD1A-4862-891C-860EEBD4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s 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2E6-D1BD-4762-B26B-B36117E6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C27-7B28-4353-9EA4-999A324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0E0-9D20-4802-B6BD-0054AD52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675-2DA5-4441-A53F-381C2168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563B-F7D3-418B-8422-B3D0272E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DD1-C826-4F99-83CC-56E02C2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98F1-F8AE-4E7C-8CA5-2B0FC273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A7C1-163D-4E4E-BEDA-BB4475E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F002-F5E6-4FBF-9FE1-E00FFC6E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8383-9B2E-47A6-8D81-B1691D9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24CA-2500-4992-A34B-8493157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7B1-5FDA-42EA-B718-1FD42826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D80A-F480-440F-BB5B-C3132C8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4E62-AF84-43FD-BBAB-719C998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6E62-2848-45AC-A9A6-2968113A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187B-86B3-4C35-A592-55A558B1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D236-FDC2-471F-8E15-AE83888F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E85-461C-41AC-8F21-0B7031AE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709-D4C6-4663-8A97-026BFA0A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0D6-CB5E-4F31-83F2-998C5D55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ABA-4B16-4B54-99FE-6027E36D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982-609E-4237-A5FF-1DC9EDD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2D1-D6B0-45DE-8A00-572CB1B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A88-1CA2-4FE2-A7C6-62D86C1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646-8678-4D4F-93F5-746F9AF91A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37A2-5FA1-433B-9681-1977D6BF5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search.yahoo.com/video/play?ei=utf-8&amp;fr=sfp&amp;fr2=sg-gac-sy&amp;p=business+ethics+in+the+workplace&amp;vid=0001389336155&amp;dt=1240332013&amp;l=0&amp;turl=http%3A%2F%2Fyts.video.search.yahoo.com%2Fimage%2F1734CC411&amp;rurl=http%3A%2F%2Fwww.iquestions.com%2Fvideo%2Fview%2F440&amp;tit=How+do++you++handle++situations++where++you+see++ethics++violated%3F&amp;sigr=1184cqqhp&amp;newfp=1" TargetMode="External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be.org.uk/codesofethics/examples.html" TargetMode="External"/><Relationship Id="rId2" Type="http://schemas.openxmlformats.org/officeDocument/2006/relationships/hyperlink" Target="http://www.ehow.com/how_5982751_develop-personal-code-ethics.html" TargetMode="Externa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omberg.com/apps/news?pid=20601103&amp;sid=aPDMGOxP0uJQ" TargetMode="External"/><Relationship Id="rId2" Type="http://schemas.openxmlformats.org/officeDocument/2006/relationships/hyperlink" Target="http://www.bloomberg.com/apps/news?pid=20601103&amp;sid=aPDMGOxP0uJQ" TargetMode="External"/><Relationship Id="rId3" Type="http://schemas.openxmlformats.org/officeDocument/2006/relationships/hyperlink" Target="http://www.bloomberg.com/apps/news?pid=20601103&amp;sid=aPDMGOxP0uJQ" TargetMode="External"/><Relationship Id="rId4" Type="http://schemas.openxmlformats.org/officeDocument/2006/relationships/image" Target="../media/image7.jpeg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ybercitizenship.org/crime/crime.html" TargetMode="External"/><Relationship Id="rId2" Type="http://schemas.openxmlformats.org/officeDocument/2006/relationships/hyperlink" Target="http://articles.marco.org/218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hicsworld.org/" TargetMode="External"/><Relationship Id="rId2" Type="http://schemas.openxmlformats.org/officeDocument/2006/relationships/hyperlink" Target="http://www.bloomberg.com/apps/news?pid=20601103&amp;sid=aPDMGOxP0uJQ" TargetMode="External"/><Relationship Id="rId3" Type="http://schemas.openxmlformats.org/officeDocument/2006/relationships/hyperlink" Target="http://www.iquestions.com/" TargetMode="External"/><Relationship Id="rId4" Type="http://schemas.openxmlformats.org/officeDocument/2006/relationships/hyperlink" Target="http://www.ibe.org.uk/codesofethics/examples.html%20Accessed%205/23/10" TargetMode="External"/><Relationship Id="rId5" Type="http://schemas.openxmlformats.org/officeDocument/2006/relationships/hyperlink" Target="http://www.ehow.com/members/ds_f1b1af4b-1219-4af7-a4cc-ed74ffd16d12.html" TargetMode="External"/><Relationship Id="rId6" Type="http://schemas.openxmlformats.org/officeDocument/2006/relationships/hyperlink" Target="http://www.ehow.com/how_5982751_develop-personal-code-ethics.html%20Accessed%205/23/10" TargetMode="External"/><Relationship Id="rId7" Type="http://schemas.openxmlformats.org/officeDocument/2006/relationships/hyperlink" Target="http://www.cybercitizenship.org/" TargetMode="External"/><Relationship Id="rId8" Type="http://schemas.openxmlformats.org/officeDocument/2006/relationships/hyperlink" Target="http://www.cybercitizenship.org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ethical issues influence business deci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57560" y="2909880"/>
            <a:ext cx="1028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grity is doing the right thing, even if nobody is watching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-Jim Stov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0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moral principles by which people conduct themselves, personally, socially, or profess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1880" y="2311560"/>
            <a:ext cx="38149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al Issu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thical Dilem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ber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5943600" y="1752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267080" y="26668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4267080" y="3200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4038480" y="3733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 Ethical Dilem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 and Reebok, outsource the manufacturing of their shoes to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du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respons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ligations do Nike and Reebok have in regards to these human rights and corporate responsibil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76960" y="2209680"/>
            <a:ext cx="2662200" cy="22892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3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place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ical Dilem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ow do you handle situations when you see ethics viola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03880" y="1752480"/>
            <a:ext cx="2698560" cy="241308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7772400" y="556272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de of Ethic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Institute of Business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664240" y="1905120"/>
            <a:ext cx="2590920" cy="2593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7696080" y="54864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38149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stitute of Business Ethics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axoSmithK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cial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nie Ma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Bernard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Madoff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Gets 150 Years in Jail for Epic Fraud (Update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3814560" cy="303192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5" action="ppaction://hlinksldjump"/>
          </p:cNvPr>
          <p:cNvSpPr/>
          <p:nvPr/>
        </p:nvSpPr>
        <p:spPr>
          <a:xfrm>
            <a:off x="7696080" y="581508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2296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1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yber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he Cyber Citizen Part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partment of Justice categorizes computer crime in three way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ttacking the computers of others (spreading viruses is an examp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wea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to commit "traditional crime" that we see in the physical world (such as fraud or illegal gambl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n access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as a "fancy filing cabinet" to store illegal or stolen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The Ethics of Music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16600" y="2057400"/>
            <a:ext cx="345420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448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esty” by Billy J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s Cit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hics Worl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ethicsworld.org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Glovin, Patricia Hurtado and Thom Weidlich Bernard Madoff Gets 150 Years in Jail for Epic Frau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bloomberg.com/apps/news?pid=20601103&amp;sid=aPDMGOxP0uJ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handle workplace ethics situations. Yahoo Videos, Apr 21, 2009  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iquestion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e of Business Ethics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ibe.org.uk/codesofethics/examples.html Accessed 5/23/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Camer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H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ng Writer. “How to develop a personal code of ethics”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ehow.com/how_5982751_develop-personal-code-ethics.html Accessed 5/23/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ber Citizen Partnership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http://www.cybercitizenship.org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hics of Music Sharing </a:t>
            </a:r>
            <a:r>
              <a:rPr b="0" lang="en-US" sz="1200" spc="-1" strike="noStrike">
                <a:solidFill>
                  <a:srgbClr val="990033"/>
                </a:solidFill>
                <a:latin typeface="Arial"/>
              </a:rPr>
              <a:t>http://articles.marco.org/2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5/23/10,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D “Business Ethics on the Job: and reproducible activities, Human Relations Media. Mount Kisco, NY. www.hrmvideo.co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 1-55548-164-7. LHS Media Center 3057000015752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71944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5:44:09Z</dcterms:created>
  <dc:creator>HP Authorized Customer</dc:creator>
  <dc:description/>
  <dc:language>en-US</dc:language>
  <cp:lastModifiedBy>CCPS</cp:lastModifiedBy>
  <dcterms:modified xsi:type="dcterms:W3CDTF">2011-01-07T21:06:58Z</dcterms:modified>
  <cp:revision>54</cp:revision>
  <dc:subject/>
  <dc:title>Slide 1</dc:title>
</cp:coreProperties>
</file>